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960350" cy="97202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A2C3-E04F-4F4F-ACC9-20F3FC7CA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7280" y="2274480"/>
            <a:ext cx="1165860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7280" y="5622840"/>
            <a:ext cx="1165860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0913-84B9-41D8-9A00-B659CE06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7280" y="227448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21120" y="227448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7280" y="562284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21120" y="562284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1CD0-5A90-4D30-91E4-0DB315387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7280" y="2274480"/>
            <a:ext cx="37537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88920" y="2274480"/>
            <a:ext cx="37537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30920" y="2274480"/>
            <a:ext cx="37537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7280" y="5622840"/>
            <a:ext cx="37537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88920" y="5622840"/>
            <a:ext cx="37537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30920" y="5622840"/>
            <a:ext cx="37537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2CE6-E755-41D6-9118-67035A9DD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7280" y="2274480"/>
            <a:ext cx="11658600" cy="641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04B8-B483-4E2B-9992-8EE90604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7280" y="2274480"/>
            <a:ext cx="11658600" cy="641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0044-7462-4E83-9B69-41D50C4F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7280" y="2274480"/>
            <a:ext cx="5689080" cy="641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21120" y="2274480"/>
            <a:ext cx="5689080" cy="641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DE6F-6ACE-4D6A-BBD0-FB910737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F0EE-01B2-47BF-8775-F9B4857A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7280" y="387000"/>
            <a:ext cx="11658600" cy="74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25C0-5745-4DE2-A6AB-B6853012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7280" y="227448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21120" y="2274480"/>
            <a:ext cx="5689080" cy="641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7280" y="562284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14C5-E540-465A-AF0F-C9BE898D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280" y="2274480"/>
            <a:ext cx="5689080" cy="641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21120" y="227448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21120" y="562284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D94C-AD72-437A-9095-2AD8D0E9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7280" y="227448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21120" y="227448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7280" y="5622840"/>
            <a:ext cx="1165860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3913-F6CE-4EA4-A338-04EF19F8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7280" y="2274480"/>
            <a:ext cx="11658600" cy="641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8854920"/>
            <a:ext cx="30146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A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31960" y="8854920"/>
            <a:ext cx="41036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A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91600" y="8854920"/>
            <a:ext cx="30146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A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ADB29-DBF4-468A-B8C3-C2D40DCEFA57}" type="slidenum">
              <a:rPr b="0" lang="es-A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12995280" cy="9720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92360" y="2916360"/>
            <a:ext cx="59403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08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Frutiger Next LT W1G"/>
              </a:rPr>
              <a:t>TEXTO EDITABLE – TITU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Frutiger Next LT W1G"/>
              </a:rPr>
              <a:t>Texto Editable Subtítu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1160" y="7920"/>
            <a:ext cx="12953880" cy="972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12995280" cy="9720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087640" y="3060720"/>
            <a:ext cx="5940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5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Frutiger Next LT W1G"/>
              </a:rPr>
              <a:t>Texto Editable Cier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6T20:13:43Z</dcterms:created>
  <dc:creator>Flor No</dc:creator>
  <dc:description/>
  <dc:language>en-US</dc:language>
  <cp:lastModifiedBy>Flor No</cp:lastModifiedBy>
  <dcterms:modified xsi:type="dcterms:W3CDTF">2013-05-27T14:14:55Z</dcterms:modified>
  <cp:revision>3</cp:revision>
  <dc:subject/>
  <dc:title/>
</cp:coreProperties>
</file>