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2960350" cy="97202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574FF-D435-49C6-A277-18A3B55E3883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FFBDF-78B2-4542-BEEE-B75F67CBDD76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DACED-8479-4DAB-B2A1-6798F071D185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1B3BF-4F19-41B8-880F-215A255F85BA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6E3F-77CF-4C83-BFE1-8C2CD108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1165860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280" y="5622840"/>
            <a:ext cx="1165860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044-4875-44BE-9C3F-290A026F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28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2112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855-EE75-42A3-952B-5C88C5B1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88920" y="227448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30920" y="227448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280" y="562284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88920" y="562284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30920" y="562284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940C-2D72-4E26-ADF2-A2B84733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280" y="2274480"/>
            <a:ext cx="1165860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DD12-9C33-49C2-81FE-DB4B4EDD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1165860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BA2-F0BC-4DE5-9113-C137EB00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E282-9D23-49D1-AD2A-E37650F2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125-DFAB-42A0-A2B5-4204F69C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387000"/>
            <a:ext cx="11658600" cy="74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F719-8CAF-42DA-91C8-DD742995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28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5CF-5252-4C62-9F4E-7BD19DC3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2112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0105-7DB5-457F-AA5F-8EBD4ADA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280" y="5622840"/>
            <a:ext cx="1165860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6D8-77AA-4D60-8061-59294763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280" y="2274480"/>
            <a:ext cx="1165860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8854920"/>
            <a:ext cx="30146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31960" y="8854920"/>
            <a:ext cx="41036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91600" y="8854920"/>
            <a:ext cx="30146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710EC-AFEF-49F8-95FF-695D2532D978}" type="slidenum">
              <a:rPr b="0" lang="es-A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240" y="0"/>
            <a:ext cx="12957120" cy="9721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1692360" y="2916360"/>
            <a:ext cx="59403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Frutiger Next LT W1G"/>
              </a:rPr>
              <a:t>TEXTO EDITABLE – TITU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Frutiger Next LT W1G"/>
              </a:rPr>
              <a:t>Texto Editable Subtítul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3240" y="0"/>
            <a:ext cx="12957120" cy="972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240" y="0"/>
            <a:ext cx="12957120" cy="9721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2087640" y="3060720"/>
            <a:ext cx="594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5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Frutiger Next LT W1G"/>
              </a:rPr>
              <a:t>Texto Editable Cier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21:26:09Z</dcterms:created>
  <dc:creator>Flor No</dc:creator>
  <dc:description/>
  <dc:language>en-US</dc:language>
  <cp:lastModifiedBy>Alejandra Barreiro</cp:lastModifiedBy>
  <dcterms:modified xsi:type="dcterms:W3CDTF">2014-05-15T16:44:30Z</dcterms:modified>
  <cp:revision>2</cp:revision>
  <dc:subject/>
  <dc:title>PowerPoint Presentation</dc:title>
</cp:coreProperties>
</file>