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FAE-BEF4-4556-BF5B-839F8E79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35A-5A86-43CE-A295-FF965C8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8F2-8DCE-4CB0-9CE3-7713C3DE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D71-5617-455E-9905-919157F3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ECD-D737-45F9-84C0-20B129C2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821-A8C7-407B-8F7E-3F098484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5C7-0659-4E7D-9D8D-C8701A2E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340-4D99-4999-B468-250D2B97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8600" cy="74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48B-00EB-429A-BCB0-6D20E590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D6C-C844-4A4E-8FBD-76CC5A58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07B-2070-4E0F-BE55-7F6E118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4DB-7557-441A-91B8-CA08D25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3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5AA46-EC53-46EC-B908-FF2D736B91F2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916360"/>
            <a:ext cx="5940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Frutiger Next LT W1G"/>
              </a:rPr>
              <a:t>TEXTO EDITABLE – TIT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Subtí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7920"/>
            <a:ext cx="12953880" cy="972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87640" y="3060720"/>
            <a:ext cx="59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Cier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1:26:09Z</dcterms:created>
  <dc:creator>Flor No</dc:creator>
  <dc:description/>
  <dc:language>en-US</dc:language>
  <cp:lastModifiedBy/>
  <cp:revision>1</cp:revision>
  <dc:subject/>
  <dc:title/>
</cp:coreProperties>
</file>